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13.wmf" ContentType="image/x-wmf"/>
  <Override PartName="/ppt/media/image1.wmf" ContentType="image/x-wmf"/>
  <Override PartName="/ppt/media/image67.wmf" ContentType="image/x-wmf"/>
  <Override PartName="/ppt/media/image66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2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4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6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8"/>
          </p:nvPr>
        </p:nvSpPr>
        <p:spPr>
          <a:xfrm>
            <a:off x="44193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chniques of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80880" y="198108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duct and Quotient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ain Ru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rivatives of Logarithmic and Exponenti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cit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i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143000" y="1143000"/>
          <a:ext cx="28605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28605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1143000" y="2286000"/>
          <a:ext cx="7369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86000"/>
                    <a:ext cx="7369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133720" y="4038480"/>
          <a:ext cx="6413400" cy="14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038480"/>
                    <a:ext cx="641340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11"/>
          <p:cNvSpPr/>
          <p:nvPr/>
        </p:nvSpPr>
        <p:spPr>
          <a:xfrm>
            <a:off x="30492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 Rule in Differenti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66680" y="2209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differentiable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ifferentiable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200400" y="3581280"/>
          <a:ext cx="228600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581280"/>
                    <a:ext cx="2286000" cy="1106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 Ru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28800" y="1219320"/>
          <a:ext cx="373536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3735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 Box 6"/>
          <p:cNvSpPr/>
          <p:nvPr/>
        </p:nvSpPr>
        <p:spPr>
          <a:xfrm>
            <a:off x="1143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600200" y="1905120"/>
          <a:ext cx="215424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905120"/>
                    <a:ext cx="21542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209680" y="3124080"/>
          <a:ext cx="335304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24080"/>
                    <a:ext cx="3353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2209680" y="4191120"/>
          <a:ext cx="493092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191120"/>
                    <a:ext cx="493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209680" y="5181480"/>
          <a:ext cx="4767480" cy="8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181480"/>
                    <a:ext cx="4767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1"/>
          <p:cNvSpPr/>
          <p:nvPr/>
        </p:nvSpPr>
        <p:spPr>
          <a:xfrm>
            <a:off x="6858000" y="3505320"/>
            <a:ext cx="16765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i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4191120" y="3809880"/>
            <a:ext cx="266688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tion of Logarithmic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754360" y="2895480"/>
          <a:ext cx="3227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4360" y="2895480"/>
                    <a:ext cx="322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971800" y="5334120"/>
          <a:ext cx="2684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334120"/>
                    <a:ext cx="2684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Text Box 5"/>
          <p:cNvSpPr/>
          <p:nvPr/>
        </p:nvSpPr>
        <p:spPr>
          <a:xfrm>
            <a:off x="457200" y="4191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ed Rule for Natural Logarithm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533520" y="2286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the Natural Loga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143000" y="4648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fferentiable function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7621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the derivativ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724280" y="1066680"/>
          <a:ext cx="29116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66680"/>
                    <a:ext cx="29116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2057400" y="4038480"/>
          <a:ext cx="204300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038480"/>
                    <a:ext cx="204300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6"/>
          <p:cNvSpPr/>
          <p:nvPr/>
        </p:nvSpPr>
        <p:spPr>
          <a:xfrm>
            <a:off x="380880" y="32004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an equation of the tangent line to the graph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914400" y="3657600"/>
          <a:ext cx="399420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57600"/>
                    <a:ext cx="39942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1752480" y="1676520"/>
          <a:ext cx="3005280" cy="13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1676520"/>
                    <a:ext cx="300528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4876920" y="2057400"/>
          <a:ext cx="1441440" cy="98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2057400"/>
                    <a:ext cx="1441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286000" y="4876920"/>
          <a:ext cx="136224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876920"/>
                    <a:ext cx="1362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133720" y="5486400"/>
          <a:ext cx="2260440" cy="105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5486400"/>
                    <a:ext cx="2260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Box 12"/>
          <p:cNvSpPr/>
          <p:nvPr/>
        </p:nvSpPr>
        <p:spPr>
          <a:xfrm>
            <a:off x="838080" y="4876920"/>
            <a:ext cx="121932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380880" y="5715000"/>
            <a:ext cx="167652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tion of Logarithmic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743200" y="2895480"/>
          <a:ext cx="29988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95480"/>
                    <a:ext cx="29988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514600" y="5334120"/>
          <a:ext cx="377352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334120"/>
                    <a:ext cx="37735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"/>
          <p:cNvSpPr/>
          <p:nvPr/>
        </p:nvSpPr>
        <p:spPr>
          <a:xfrm>
            <a:off x="457200" y="41911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ed Rule for Logarithm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533520" y="2286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a Logarithmi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1143000" y="4648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fferentiable function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tion of Logarithmic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828800" y="2057400"/>
          <a:ext cx="42195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4219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Text Box 6"/>
          <p:cNvSpPr/>
          <p:nvPr/>
        </p:nvSpPr>
        <p:spPr>
          <a:xfrm>
            <a:off x="10666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905120" y="3429000"/>
          <a:ext cx="563868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429000"/>
                    <a:ext cx="563868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905120" y="4572000"/>
          <a:ext cx="539100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572000"/>
                    <a:ext cx="53910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066680" y="4572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ve of Logarithms of Absolut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362320" y="3962520"/>
          <a:ext cx="51051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51051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362320" y="2379600"/>
          <a:ext cx="3809880" cy="13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379600"/>
                    <a:ext cx="38098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066680" y="4572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ve of Logarithms of Absolut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990720" y="2590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905120" y="2438280"/>
          <a:ext cx="233028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33028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4419720" y="2438280"/>
          <a:ext cx="2643120" cy="11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438280"/>
                    <a:ext cx="264312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Text Box 8"/>
          <p:cNvSpPr/>
          <p:nvPr/>
        </p:nvSpPr>
        <p:spPr>
          <a:xfrm>
            <a:off x="1066680" y="4419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905120" y="4114800"/>
          <a:ext cx="243504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114800"/>
                    <a:ext cx="24350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343400" y="4114800"/>
          <a:ext cx="3859200" cy="12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114800"/>
                    <a:ext cx="38592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343400" y="5257800"/>
          <a:ext cx="2955960" cy="13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5257800"/>
                    <a:ext cx="2955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tion of Exponenti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2895480" y="2819520"/>
          <a:ext cx="19814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19814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13000" y="5181480"/>
          <a:ext cx="25574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3000" y="5181480"/>
                    <a:ext cx="25574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5"/>
          <p:cNvSpPr/>
          <p:nvPr/>
        </p:nvSpPr>
        <p:spPr>
          <a:xfrm>
            <a:off x="457200" y="4114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ed Rul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335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143000" y="4648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ifferentiable function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otient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981080" y="4648320"/>
          <a:ext cx="527544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275440" cy="1135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1600200" y="1905120"/>
          <a:ext cx="617220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905120"/>
                    <a:ext cx="6172200" cy="979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9" name="Rectangle 16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ves of Exponenti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533520" y="1752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the derivativ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4572000" y="1676520"/>
          <a:ext cx="1982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76520"/>
                    <a:ext cx="1982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133720" y="4572000"/>
          <a:ext cx="3590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572000"/>
                    <a:ext cx="3590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971800" y="5257800"/>
          <a:ext cx="2227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257800"/>
                    <a:ext cx="2227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Text Box 7"/>
          <p:cNvSpPr/>
          <p:nvPr/>
        </p:nvSpPr>
        <p:spPr>
          <a:xfrm>
            <a:off x="533520" y="4038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the derivativ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4419720" y="3962520"/>
          <a:ext cx="198108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962520"/>
                    <a:ext cx="1981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2743200" y="2362320"/>
          <a:ext cx="350532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2362320"/>
                    <a:ext cx="3505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3505320" y="3276720"/>
          <a:ext cx="1257120" cy="52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276720"/>
                    <a:ext cx="12571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Text Box 15"/>
          <p:cNvSpPr/>
          <p:nvPr/>
        </p:nvSpPr>
        <p:spPr>
          <a:xfrm>
            <a:off x="5715000" y="441972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tion of Exponenti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560680" y="2819520"/>
          <a:ext cx="265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2819520"/>
                    <a:ext cx="265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909880" y="5181480"/>
          <a:ext cx="3164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9880" y="5181480"/>
                    <a:ext cx="3164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Text Box 5"/>
          <p:cNvSpPr/>
          <p:nvPr/>
        </p:nvSpPr>
        <p:spPr>
          <a:xfrm>
            <a:off x="457200" y="4114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ed Rul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5335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1143000" y="4648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ifferentiable function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ves of Exponenti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533520" y="2057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the derivativ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495680" y="1981080"/>
          <a:ext cx="21384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2138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3733920" y="4267080"/>
          <a:ext cx="240336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267080"/>
                    <a:ext cx="24033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2895480" y="2895480"/>
          <a:ext cx="4114800" cy="97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895480"/>
                    <a:ext cx="41148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1"/>
          <p:cNvSpPr/>
          <p:nvPr/>
        </p:nvSpPr>
        <p:spPr>
          <a:xfrm>
            <a:off x="5715000" y="441972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it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2971800" y="1600200"/>
          <a:ext cx="3200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Text Box 4"/>
          <p:cNvSpPr/>
          <p:nvPr/>
        </p:nvSpPr>
        <p:spPr>
          <a:xfrm>
            <a:off x="1828800" y="3048120"/>
            <a:ext cx="5105520" cy="581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5"/>
          <p:cNvSpPr/>
          <p:nvPr/>
        </p:nvSpPr>
        <p:spPr>
          <a:xfrm flipV="1">
            <a:off x="2895480" y="2361960"/>
            <a:ext cx="15264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048120" y="4114800"/>
          <a:ext cx="3047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148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7"/>
          <p:cNvSpPr/>
          <p:nvPr/>
        </p:nvSpPr>
        <p:spPr>
          <a:xfrm>
            <a:off x="1828800" y="5257800"/>
            <a:ext cx="5105520" cy="581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"/>
          <p:cNvSpPr/>
          <p:nvPr/>
        </p:nvSpPr>
        <p:spPr>
          <a:xfrm flipV="1">
            <a:off x="3124080" y="4800600"/>
            <a:ext cx="763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"/>
          <p:cNvSpPr/>
          <p:nvPr/>
        </p:nvSpPr>
        <p:spPr>
          <a:xfrm flipH="1" flipV="1">
            <a:off x="4343400" y="4800600"/>
            <a:ext cx="763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it Differenti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828800" y="2666880"/>
          <a:ext cx="36576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36576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752480" y="3809880"/>
          <a:ext cx="3532320" cy="11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09880"/>
                    <a:ext cx="3532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2289240" y="5029200"/>
          <a:ext cx="2433600" cy="12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9240" y="5029200"/>
                    <a:ext cx="24336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Text Box 19"/>
          <p:cNvSpPr/>
          <p:nvPr/>
        </p:nvSpPr>
        <p:spPr>
          <a:xfrm>
            <a:off x="6095880" y="388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0"/>
          <p:cNvSpPr/>
          <p:nvPr/>
        </p:nvSpPr>
        <p:spPr>
          <a:xfrm flipH="1">
            <a:off x="5715000" y="43434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1"/>
          <p:cNvSpPr/>
          <p:nvPr/>
        </p:nvSpPr>
        <p:spPr>
          <a:xfrm flipH="1">
            <a:off x="4952520" y="4495680"/>
            <a:ext cx="114300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2"/>
          <p:cNvSpPr/>
          <p:nvPr/>
        </p:nvSpPr>
        <p:spPr>
          <a:xfrm>
            <a:off x="609480" y="1676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fferentiate the implicit case we use the chain rule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function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7620120" y="3657600"/>
          <a:ext cx="5745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657600"/>
                    <a:ext cx="574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Rectangle 24"/>
          <p:cNvSpPr/>
          <p:nvPr/>
        </p:nvSpPr>
        <p:spPr>
          <a:xfrm>
            <a:off x="6095880" y="3581280"/>
            <a:ext cx="2286000" cy="1219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114300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ent Line to Implici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68580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nd the equation of the tangent line to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47242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point (2,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362320" y="1905120"/>
          <a:ext cx="220968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22096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1447920" y="3200400"/>
          <a:ext cx="29718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00400"/>
                    <a:ext cx="2971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2286000" y="4495680"/>
          <a:ext cx="220824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495680"/>
                    <a:ext cx="22082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3429000" y="5638680"/>
          <a:ext cx="110484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5638680"/>
                    <a:ext cx="11048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5486400" y="3886200"/>
          <a:ext cx="2666880" cy="107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3886200"/>
                    <a:ext cx="2666880" cy="1074600"/>
                  </a:xfrm>
                  <a:prstGeom prst="rect">
                    <a:avLst/>
                  </a:prstGeom>
                  <a:ln w="2232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arithmic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762120" y="990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Use logarithmic differentiation to find the derivativ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971800" y="1447920"/>
          <a:ext cx="32511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32511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1295280" y="2362320"/>
          <a:ext cx="44197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62320"/>
                    <a:ext cx="44197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685800" y="3200400"/>
          <a:ext cx="528624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00400"/>
                    <a:ext cx="52862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838080" y="4191120"/>
          <a:ext cx="3900600" cy="10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191120"/>
                    <a:ext cx="39006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990720" y="5334120"/>
          <a:ext cx="643896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334120"/>
                    <a:ext cx="64389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Text Box 10"/>
          <p:cNvSpPr/>
          <p:nvPr/>
        </p:nvSpPr>
        <p:spPr>
          <a:xfrm>
            <a:off x="6477120" y="2514600"/>
            <a:ext cx="160020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6400800" y="4419720"/>
            <a:ext cx="213372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6172200" y="3429000"/>
            <a:ext cx="259092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696080" y="5715000"/>
            <a:ext cx="106704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8288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590920" y="1447920"/>
          <a:ext cx="49003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49003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09480" y="2514600"/>
          <a:ext cx="834228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4600"/>
                    <a:ext cx="8342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523880" y="5029200"/>
          <a:ext cx="653256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029200"/>
                    <a:ext cx="6532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19"/>
          <p:cNvSpPr/>
          <p:nvPr/>
        </p:nvSpPr>
        <p:spPr>
          <a:xfrm>
            <a:off x="1523880" y="3809880"/>
            <a:ext cx="16002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934320" y="3581280"/>
            <a:ext cx="198108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5"/>
          <p:cNvSpPr/>
          <p:nvPr/>
        </p:nvSpPr>
        <p:spPr>
          <a:xfrm flipH="1" flipV="1">
            <a:off x="2361960" y="3276360"/>
            <a:ext cx="75960" cy="5331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6"/>
          <p:cNvSpPr/>
          <p:nvPr/>
        </p:nvSpPr>
        <p:spPr>
          <a:xfrm flipH="1" flipV="1">
            <a:off x="8153280" y="3047760"/>
            <a:ext cx="76320" cy="5331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otient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600200" y="1828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286000" y="1676520"/>
          <a:ext cx="2013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76520"/>
                    <a:ext cx="2013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209680" y="3200400"/>
          <a:ext cx="4346640" cy="14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200400"/>
                    <a:ext cx="434664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048120" y="4648320"/>
          <a:ext cx="242064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648320"/>
                    <a:ext cx="24206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10"/>
          <p:cNvSpPr/>
          <p:nvPr/>
        </p:nvSpPr>
        <p:spPr>
          <a:xfrm>
            <a:off x="304920" y="2743200"/>
            <a:ext cx="190476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num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6705720" y="2286000"/>
            <a:ext cx="198108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3"/>
          <p:cNvSpPr/>
          <p:nvPr/>
        </p:nvSpPr>
        <p:spPr>
          <a:xfrm>
            <a:off x="2209680" y="3124080"/>
            <a:ext cx="10670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4"/>
          <p:cNvSpPr/>
          <p:nvPr/>
        </p:nvSpPr>
        <p:spPr>
          <a:xfrm flipH="1">
            <a:off x="5181480" y="2743200"/>
            <a:ext cx="152424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600200" y="5335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 the Deri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143000" y="2133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981080" y="1981080"/>
          <a:ext cx="426744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26744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1143000" y="3352680"/>
          <a:ext cx="705816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70581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295280" y="4572000"/>
          <a:ext cx="515304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572000"/>
                    <a:ext cx="51530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11"/>
          <p:cNvSpPr/>
          <p:nvPr/>
        </p:nvSpPr>
        <p:spPr>
          <a:xfrm>
            <a:off x="1447920" y="5638680"/>
            <a:ext cx="1371600" cy="5814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–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914400" y="6094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tion Thought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914400" y="19051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expression, consider the steps you would use in computing its value.  If the last operation is multiplication, treat the expression as a product; if the last operation is division, treat the expression as a quotient; and so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99072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752480" y="1371600"/>
          <a:ext cx="2514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2514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6"/>
          <p:cNvSpPr/>
          <p:nvPr/>
        </p:nvSpPr>
        <p:spPr>
          <a:xfrm>
            <a:off x="990720" y="213372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a value first you would evaluate the parentheses then multiply the results, so this can be treated as a produc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1066680" y="4114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828800" y="4114800"/>
          <a:ext cx="323676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32367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9"/>
          <p:cNvSpPr/>
          <p:nvPr/>
        </p:nvSpPr>
        <p:spPr>
          <a:xfrm>
            <a:off x="1219320" y="487692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a value the last operation would be to subtract, so this can be treated as a differe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9144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tion Thought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i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2590920" y="3352680"/>
          <a:ext cx="364968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352680"/>
                    <a:ext cx="3649680" cy="1098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3" name="Text Box 7"/>
          <p:cNvSpPr/>
          <p:nvPr/>
        </p:nvSpPr>
        <p:spPr>
          <a:xfrm>
            <a:off x="1066680" y="49528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rivative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quantity) is the derivati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 at the quantity, times the derivative of the qua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762120" y="121932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ifferentiable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ifferentiable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compos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differentiable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ed Power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895480" y="1752480"/>
          <a:ext cx="318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3187800" cy="1095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9" name="Text Box 10"/>
          <p:cNvSpPr/>
          <p:nvPr/>
        </p:nvSpPr>
        <p:spPr>
          <a:xfrm>
            <a:off x="121932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981080" y="3352680"/>
          <a:ext cx="54565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52680"/>
                    <a:ext cx="54565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4572000" y="4343400"/>
          <a:ext cx="4218120" cy="10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343400"/>
                    <a:ext cx="42181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495680" y="5486400"/>
          <a:ext cx="2125800" cy="11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5486400"/>
                    <a:ext cx="21258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11:55Z</dcterms:created>
  <dc:creator>Computer Services</dc:creator>
  <dc:description/>
  <dc:language>en-US</dc:language>
  <cp:lastModifiedBy>SHS</cp:lastModifiedBy>
  <dcterms:modified xsi:type="dcterms:W3CDTF">2011-06-13T13:37:09Z</dcterms:modified>
  <cp:revision>39</cp:revision>
  <dc:subject/>
  <dc:title>PowerPoint Presentation</dc:title>
</cp:coreProperties>
</file>